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2411-2E82-430E-8684-A5EFFC334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F9AE-8234-4CBF-ACF8-2889E8B88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FBD9-568E-453E-9B19-8B8CF1674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A9B8-D766-4CF5-8A91-B44EE2602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70C6-89CA-4A2A-90B3-917DDF59C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D0BE-E6D0-4818-96B9-89E22A049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2699-42AF-431A-A67F-ABDFBC0CF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5740-8919-47E4-B2B9-0D261D675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49C4-0817-4601-8FE1-1E3A9D81E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105F-EE3F-442F-85A4-F6869C921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125B-B4E6-468C-8C57-576778720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98A9-8FAA-41A8-AEB2-C2C7879BB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B7467-E8A1-44EB-B35F-8EC7085A3B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terature Circles / Literature Study Grou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ok discussion grou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066680" y="533520"/>
            <a:ext cx="708660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iterature Circle/ Study Grou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1905120"/>
            <a:ext cx="1752480" cy="9144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1981080"/>
            <a:ext cx="1752840" cy="9144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t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800600" y="1981080"/>
            <a:ext cx="1828800" cy="9144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934320" y="1905120"/>
            <a:ext cx="1828800" cy="9903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alu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1447560" y="1676520"/>
            <a:ext cx="28954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3505320" y="1676520"/>
            <a:ext cx="91440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724280" y="1676520"/>
            <a:ext cx="106704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1676520"/>
            <a:ext cx="2514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3124080"/>
            <a:ext cx="1904760" cy="762120"/>
          </a:xfrm>
          <a:prstGeom prst="hexagon">
            <a:avLst>
              <a:gd name="adj" fmla="val 62482"/>
              <a:gd name="vf" fmla="val 11547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mea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5638680"/>
            <a:ext cx="2047680" cy="685800"/>
          </a:xfrm>
          <a:prstGeom prst="hexagon">
            <a:avLst>
              <a:gd name="adj" fmla="val 74646"/>
              <a:gd name="vf" fmla="val 11547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4800600"/>
            <a:ext cx="2124000" cy="609480"/>
          </a:xfrm>
          <a:prstGeom prst="hexagon">
            <a:avLst>
              <a:gd name="adj" fmla="val 87123"/>
              <a:gd name="vf" fmla="val 11547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590920" y="3962520"/>
            <a:ext cx="2047680" cy="609480"/>
          </a:xfrm>
          <a:prstGeom prst="hexagon">
            <a:avLst>
              <a:gd name="adj" fmla="val 83993"/>
              <a:gd name="vf" fmla="val 11547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514600" y="3200400"/>
            <a:ext cx="2124000" cy="533520"/>
          </a:xfrm>
          <a:prstGeom prst="hexagon">
            <a:avLst>
              <a:gd name="adj" fmla="val 99528"/>
              <a:gd name="vf" fmla="val 11547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labo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3200400"/>
            <a:ext cx="2124360" cy="533520"/>
          </a:xfrm>
          <a:prstGeom prst="hexagon">
            <a:avLst>
              <a:gd name="adj" fmla="val 99545"/>
              <a:gd name="vf" fmla="val 11547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rodu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0" y="4114800"/>
            <a:ext cx="2124000" cy="533520"/>
          </a:xfrm>
          <a:prstGeom prst="hexagon">
            <a:avLst>
              <a:gd name="adj" fmla="val 99528"/>
              <a:gd name="vf" fmla="val 11547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br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58000" y="3200400"/>
            <a:ext cx="2124000" cy="533520"/>
          </a:xfrm>
          <a:prstGeom prst="hexagon">
            <a:avLst>
              <a:gd name="adj" fmla="val 99528"/>
              <a:gd name="vf" fmla="val 11547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800600" y="5715000"/>
            <a:ext cx="2124000" cy="609480"/>
          </a:xfrm>
          <a:prstGeom prst="hexagon">
            <a:avLst>
              <a:gd name="adj" fmla="val 87123"/>
              <a:gd name="vf" fmla="val 11547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terature Lo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800600" y="4800600"/>
            <a:ext cx="2124000" cy="685800"/>
          </a:xfrm>
          <a:prstGeom prst="hexagon">
            <a:avLst>
              <a:gd name="adj" fmla="val 77428"/>
              <a:gd name="vf" fmla="val 11547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e-Rea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rateg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4038480"/>
            <a:ext cx="2124360" cy="533520"/>
          </a:xfrm>
          <a:prstGeom prst="hexagon">
            <a:avLst>
              <a:gd name="adj" fmla="val 99545"/>
              <a:gd name="vf" fmla="val 11547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95280" y="2895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943600" y="5486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943600" y="4572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867280" y="3733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791320" y="2895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848720" y="2971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924680" y="3809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581280" y="2895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581280" y="3733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581280" y="4572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58128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Literature Circle 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eater understanding of litera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ers who create mea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ate prior knowled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What it 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llaboration-students work toge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fferentiation-small groups, student cho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udent learning communities-enhances student learning through others’ experi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udent choices- heterogeneous grou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How to Impl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e- establish group sharing pract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fer variety of tex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actice using the “I,We,You” meth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Pre-reading strategies with each group’s tex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 Study Group schedule on the bo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e and demonstrate how to use Literature Lo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How to Evalu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servation feed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terature Log Rubr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0T13:40:30Z</dcterms:created>
  <dc:creator>Bradford Area School District</dc:creator>
  <dc:description/>
  <dc:language>en-US</dc:language>
  <cp:lastModifiedBy>Bradford Area School District</cp:lastModifiedBy>
  <dcterms:modified xsi:type="dcterms:W3CDTF">2009-06-16T14:46:51Z</dcterms:modified>
  <cp:revision>2</cp:revision>
  <dc:subject/>
  <dc:title>READER’S THEATER(THEATRE)</dc:title>
</cp:coreProperties>
</file>